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B87-2D54-4953-9130-547A0DF6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31A-890D-4D8F-A95F-D5333CB2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175-FCD0-43EA-8078-E9378EF5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01A-3866-4A20-A4C8-FF250A9C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752B-FB34-4627-B18D-55B6E11D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DEF3-C039-48CD-8F2F-2F0699B4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D178-4C01-484D-9DB8-7FE1F67D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23E2-EAAF-4FD7-98C7-D4B949FE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C862-75AE-4567-9B9D-FE9F8296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5622-8A35-41D8-A58C-2D98344A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78EC-38DA-450B-9E40-2D76B667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5B9-2D0A-4BAD-9D46-9A11E735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E9E7-4BFC-4E3B-8048-AF537CC7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FD94-6739-47D2-8316-73BC656E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D837-2FBE-4E51-81C5-4B26FBFE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3742-2C43-4A21-82D3-7B1CEEC5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58FF-0971-4DED-ACB5-AE63F4FE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761-7ABC-421E-ABD8-471E1173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6D37-86DF-45EA-890D-F5B2C023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864-1F52-4FE3-BCAF-F186E20B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8F9-03DF-49EE-BBE6-AC1BE986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48B-3ADD-4B9E-A96A-45039406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FD49-F7DC-4770-9740-F259A869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E1C-5CDA-4318-8D93-D456F877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AB2C-620C-46AA-A95B-2D4D2533A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3C78-2535-4B09-B05B-B01F34BDC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08200" y="690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02080" y="546120"/>
            <a:ext cx="35762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 fronteri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benámar y el rey Don Jua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¡Abenámar, Abenáma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oro de la morerí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día que tú naci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grandes señales había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staba la mar en calm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 luna estaba crecid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oro que en tal ssigno n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debe decir menti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No te la diré, señ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unque me cueste la vi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que soy hijo de un m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una cristiana cautiv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iendo yo niño y muchac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i madre me lo dec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mentira no dijes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76560" y="112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63840" y="692280"/>
            <a:ext cx="33512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era grande villaní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 tanto, pregunta, re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la verdad te dir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Yo te agradezco, Abenáma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questa tu cortes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¿Qué castillos son aquello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¡Altos son y relucía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El Alhambra era, señ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la otra, los alixar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brados a maravi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moro que los labra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ien doblas ganaba al dí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el día que no los lab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otras tanta se perdí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sque los tuvo labr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rey le quitó la vid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que no labre otros 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l rey del Andaluc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745720" y="690480"/>
            <a:ext cx="356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otro es Torres Bermej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stillo de gran valí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otro Generalif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uerta que par no tenía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llí hablara el rey don Ju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bien oiréis lo que dec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Si tú quisieras, Gran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ntigo me casarí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aréte en arras y do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 Córdoba y a Sevill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Casada soy, rey don Ju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sad soy, que no vïud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moro que a mí me tie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uy grande bien me quería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ablara allí el rey don Ju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stas palabras dec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Echenme  acá mis lombarda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18440" y="1122480"/>
            <a:ext cx="3201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oña Sancha y doña Elvir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iraremos a lo alt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 bajo ella se daría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combate era tan fuer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grande temor ponía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1:08:43Z</dcterms:created>
  <dc:creator> </dc:creator>
  <dc:description/>
  <dc:language>en-US</dc:language>
  <cp:lastModifiedBy> </cp:lastModifiedBy>
  <dcterms:modified xsi:type="dcterms:W3CDTF">2007-09-28T01:32:39Z</dcterms:modified>
  <cp:revision>2</cp:revision>
  <dc:subject/>
  <dc:title>Diapositiva 1</dc:title>
</cp:coreProperties>
</file>